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9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image51.jpeg" ContentType="image/jpeg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00B-BBF9-4320-92F5-200FDC65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4BB-ABC9-48F4-8CDD-2F12FCB2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A3C-DB8C-404B-B3CA-EAE9B8A2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B89-B5B8-4EDC-9BA0-BAC0D73C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3D23-F70D-4BC0-A5F3-CE9961D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DA29-00BC-4A95-B120-587369C8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A5CA-94F0-4BC9-82DA-C3EE2EA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7F26-FF7B-4FAC-B599-5515587F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1A7A-808D-4FF9-BA2F-4A1AB377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9F9-F4C5-4013-8289-6490EB1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8131-521B-445F-8EB4-4D89F8E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285-267E-4984-B214-A2F51730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E211-B936-4686-B607-DEE60A5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7C0-0F8A-4128-8859-042A2B3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6D8B-0E43-4FF8-9F52-31AE84E2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120-B480-4844-853D-D76E7A12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58F0-79AE-4939-A60D-44538F0E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7DB-7859-4741-8AAF-6EE1FAE7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242-DB21-474E-B0E3-F5E90B35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467-D816-431F-8698-2A4C9021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D5F-19CB-48C8-B11A-8F061A1A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2DA-604E-4FA1-8A6D-2FCD2C6E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E88-4EEE-40EE-8035-2458DFD1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F99-1384-426C-AD56-8190E0A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47DB-DDF7-4CF6-8DE3-9E2227F3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09BA-78FA-46DA-8E79-3D8E23A83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2"/>
          <a:stretch/>
        </p:blipFill>
        <p:spPr>
          <a:xfrm>
            <a:off x="665280" y="1841400"/>
            <a:ext cx="7392960" cy="16639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4784760" y="353880"/>
            <a:ext cx="1712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3 класс\русский язык\скриншон\21.png"/>
          <p:cNvPicPr/>
          <p:nvPr/>
        </p:nvPicPr>
        <p:blipFill>
          <a:blip r:embed="rId2"/>
          <a:stretch/>
        </p:blipFill>
        <p:spPr>
          <a:xfrm>
            <a:off x="519120" y="252360"/>
            <a:ext cx="8104320" cy="635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\клипарты\Дети\1ebbf27a2255.png"/>
          <p:cNvPicPr/>
          <p:nvPr/>
        </p:nvPicPr>
        <p:blipFill>
          <a:blip r:embed="rId2"/>
          <a:stretch/>
        </p:blipFill>
        <p:spPr>
          <a:xfrm>
            <a:off x="5651640" y="4292640"/>
            <a:ext cx="108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D:\клипарты\осень\осень 3\76849854_2374021_73334588_0_4e12a_a4204b5f_L.png"/>
          <p:cNvPicPr/>
          <p:nvPr/>
        </p:nvPicPr>
        <p:blipFill>
          <a:blip r:embed="rId2"/>
          <a:stretch/>
        </p:blipFill>
        <p:spPr>
          <a:xfrm>
            <a:off x="0" y="2984400"/>
            <a:ext cx="3851280" cy="3873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281880" y="404640"/>
            <a:ext cx="8326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пиши словосочетания с главным словом, обозначающ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ействие предмета. В скобках напиши вопрос к зависи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ову. Обозначь ударн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216440" y="1773360"/>
            <a:ext cx="77000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о лесам гуляет осен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раше этой нет пор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И в лукошках мы унос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Леса щедрые дар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писанный звук" descr=""/>
          <p:cNvPicPr/>
          <p:nvPr/>
        </p:nvPicPr>
        <p:blipFill>
          <a:blip r:embed="rId3"/>
          <a:stretch/>
        </p:blipFill>
        <p:spPr>
          <a:xfrm>
            <a:off x="788508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11280" y="189000"/>
            <a:ext cx="324000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Осень на носу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казала мама Славке: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олодно в лесу!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день под куртку шарфик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едь осень на носу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 Славка – дошколенок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думался всерьез: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"Оранжевая осень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 чей уселась нос?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брёл мальчишка в ельник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видел там козу,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 признаков осенн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 встретил на нос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284720" y="189000"/>
            <a:ext cx="388764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ерху заметил дятла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ел среди берёз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, осень сядет вряд л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этот чудо – нос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друг телка: "My – у!” за елкой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лавку ждал сюрприз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идел: к носу тёл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лип осенний лист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льчишка крикнул: "Осень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тёлкином носу!!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иму я листик с носа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маме отнес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лена К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95280" y="5877000"/>
            <a:ext cx="8497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йди в стихотворении фразеологизм. Объясни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D:\клипарты\осень\7.gif"/>
          <p:cNvPicPr/>
          <p:nvPr/>
        </p:nvPicPr>
        <p:blipFill>
          <a:blip r:embed="rId2"/>
          <a:stretch/>
        </p:blipFill>
        <p:spPr>
          <a:xfrm>
            <a:off x="6540480" y="2349360"/>
            <a:ext cx="2428920" cy="331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клипарты\осень\11.jpg"/>
          <p:cNvPicPr/>
          <p:nvPr/>
        </p:nvPicPr>
        <p:blipFill>
          <a:blip r:embed="rId3"/>
          <a:stretch/>
        </p:blipFill>
        <p:spPr>
          <a:xfrm>
            <a:off x="971640" y="3933720"/>
            <a:ext cx="2063520" cy="1870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санный звук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395280" y="333360"/>
            <a:ext cx="7201080" cy="50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они побежали лесо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скакали по пням и по коч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 бедная баба од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плачет, и плачет 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ела бы баба за сто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а стол за ворота ушё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варила бы баба щ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а кастрюл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и, поищ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audioskazki.net/wp-content/gallery/chukovsky/fedorino_gore/0003.jpg"/>
          <p:cNvPicPr/>
          <p:nvPr/>
        </p:nvPicPr>
        <p:blipFill>
          <a:blip r:embed="rId2"/>
          <a:stretch/>
        </p:blipFill>
        <p:spPr>
          <a:xfrm>
            <a:off x="5608800" y="2322360"/>
            <a:ext cx="3363840" cy="4322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24000" y="5805360"/>
            <a:ext cx="4392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пиши глаголы. Поставь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м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Записанный звук" descr=""/>
          <p:cNvPicPr/>
          <p:nvPr/>
        </p:nvPicPr>
        <p:blipFill>
          <a:blip r:embed="rId3"/>
          <a:stretch/>
        </p:blipFill>
        <p:spPr>
          <a:xfrm>
            <a:off x="817236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24000" y="1557360"/>
            <a:ext cx="849600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Змей Горыныч унёс царевну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далек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 Оля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сильн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покрасн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Таня чувствует на катке себя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хорош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 На уроке Сергей был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крайне невнимател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Слова для справок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от корки до корки, за тридевять земель, как рыба в воде, до корней волос, витать в обла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24000" y="333360"/>
            <a:ext cx="8496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мените выделенные слова фразеологизмами. Определите, каким членом предложения они яв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писанный звук" descr=""/>
          <p:cNvPicPr/>
          <p:nvPr/>
        </p:nvPicPr>
        <p:blipFill>
          <a:blip r:embed="rId2"/>
          <a:stretch/>
        </p:blipFill>
        <p:spPr>
          <a:xfrm>
            <a:off x="781200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111"/>
          <p:cNvPicPr/>
          <p:nvPr/>
        </p:nvPicPr>
        <p:blipFill>
          <a:blip r:embed="rId2"/>
          <a:stretch/>
        </p:blipFill>
        <p:spPr>
          <a:xfrm>
            <a:off x="304920" y="1143000"/>
            <a:ext cx="2209680" cy="160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5" name="Picture 4" descr="039"/>
          <p:cNvPicPr/>
          <p:nvPr/>
        </p:nvPicPr>
        <p:blipFill>
          <a:blip r:embed="rId3"/>
          <a:stretch/>
        </p:blipFill>
        <p:spPr>
          <a:xfrm>
            <a:off x="3352680" y="1066680"/>
            <a:ext cx="2286000" cy="15242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46" name="Oval 5"/>
          <p:cNvSpPr/>
          <p:nvPr/>
        </p:nvSpPr>
        <p:spPr>
          <a:xfrm>
            <a:off x="228600" y="2971800"/>
            <a:ext cx="25909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Жить как ко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с соба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124080" y="2819520"/>
            <a:ext cx="274320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Взять быка за 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115"/>
          <p:cNvPicPr/>
          <p:nvPr/>
        </p:nvPicPr>
        <p:blipFill>
          <a:blip r:embed="rId4"/>
          <a:stretch/>
        </p:blipFill>
        <p:spPr>
          <a:xfrm>
            <a:off x="6732720" y="1052640"/>
            <a:ext cx="2057400" cy="1523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Oval 8"/>
          <p:cNvSpPr/>
          <p:nvPr/>
        </p:nvSpPr>
        <p:spPr>
          <a:xfrm>
            <a:off x="6227640" y="2852640"/>
            <a:ext cx="274320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Делать из мухи с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139"/>
          <p:cNvPicPr/>
          <p:nvPr/>
        </p:nvPicPr>
        <p:blipFill>
          <a:blip r:embed="rId5"/>
          <a:stretch/>
        </p:blipFill>
        <p:spPr>
          <a:xfrm>
            <a:off x="3505320" y="3657600"/>
            <a:ext cx="2286000" cy="1523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1" name="Oval 10"/>
          <p:cNvSpPr/>
          <p:nvPr/>
        </p:nvSpPr>
        <p:spPr>
          <a:xfrm>
            <a:off x="3419640" y="5661000"/>
            <a:ext cx="27432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Крутиться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белка в кол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136"/>
          <p:cNvPicPr/>
          <p:nvPr/>
        </p:nvPicPr>
        <p:blipFill>
          <a:blip r:embed="rId6"/>
          <a:stretch/>
        </p:blipFill>
        <p:spPr>
          <a:xfrm>
            <a:off x="457200" y="3962520"/>
            <a:ext cx="2514600" cy="160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3" name="Oval 12"/>
          <p:cNvSpPr/>
          <p:nvPr/>
        </p:nvSpPr>
        <p:spPr>
          <a:xfrm>
            <a:off x="304920" y="5791320"/>
            <a:ext cx="289548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Медведь на 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наступ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044"/>
          <p:cNvPicPr/>
          <p:nvPr/>
        </p:nvPicPr>
        <p:blipFill>
          <a:blip r:embed="rId7"/>
          <a:stretch/>
        </p:blipFill>
        <p:spPr>
          <a:xfrm>
            <a:off x="6629400" y="3962520"/>
            <a:ext cx="2057400" cy="154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5" name="Oval 14"/>
          <p:cNvSpPr/>
          <p:nvPr/>
        </p:nvSpPr>
        <p:spPr>
          <a:xfrm>
            <a:off x="6477120" y="5638680"/>
            <a:ext cx="2361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Ехать зай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14" descr=""/>
          <p:cNvPicPr/>
          <p:nvPr/>
        </p:nvPicPr>
        <p:blipFill>
          <a:blip r:embed="rId8"/>
          <a:stretch/>
        </p:blipFill>
        <p:spPr>
          <a:xfrm>
            <a:off x="1279440" y="79200"/>
            <a:ext cx="7205760" cy="725760"/>
          </a:xfrm>
          <a:prstGeom prst="rect">
            <a:avLst/>
          </a:prstGeom>
          <a:ln w="0">
            <a:noFill/>
          </a:ln>
        </p:spPr>
      </p:pic>
      <p:pic>
        <p:nvPicPr>
          <p:cNvPr id="157" name="Записанный звук" descr=""/>
          <p:cNvPicPr/>
          <p:nvPr/>
        </p:nvPicPr>
        <p:blipFill>
          <a:blip r:embed="rId9"/>
          <a:stretch/>
        </p:blipFill>
        <p:spPr>
          <a:xfrm>
            <a:off x="88390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468360" y="3141720"/>
            <a:ext cx="6191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каких частях речи мы говори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цени свою работу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:\клипарты\осень\22.jpg"/>
          <p:cNvPicPr/>
          <p:nvPr/>
        </p:nvPicPr>
        <p:blipFill>
          <a:blip r:embed="rId2"/>
          <a:srcRect l="0" t="0" r="0" b="1218"/>
          <a:stretch/>
        </p:blipFill>
        <p:spPr>
          <a:xfrm>
            <a:off x="2700360" y="1413000"/>
            <a:ext cx="3600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F:\клипарты\Дети\1c0ec7a6b4eb.png"/>
          <p:cNvPicPr/>
          <p:nvPr/>
        </p:nvPicPr>
        <p:blipFill>
          <a:blip r:embed="rId2"/>
          <a:stretch/>
        </p:blipFill>
        <p:spPr>
          <a:xfrm>
            <a:off x="1763640" y="1413000"/>
            <a:ext cx="311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55280" y="333360"/>
            <a:ext cx="43502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ределите слова н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78720" y="1197000"/>
            <a:ext cx="8490960" cy="41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Зел…нь, з…мной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уд…ржать, кр…чать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…фейный, л…стопад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н…зина, ск…сит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Записанный звук" descr=""/>
          <p:cNvPicPr/>
          <p:nvPr/>
        </p:nvPicPr>
        <p:blipFill>
          <a:blip r:embed="rId2"/>
          <a:stretch/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2"/>
          <a:stretch/>
        </p:blipFill>
        <p:spPr>
          <a:xfrm>
            <a:off x="1030320" y="5608800"/>
            <a:ext cx="307800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3"/>
          <a:stretch/>
        </p:blipFill>
        <p:spPr>
          <a:xfrm>
            <a:off x="5353200" y="5608800"/>
            <a:ext cx="307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716360" y="260280"/>
            <a:ext cx="395928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чень впечатлительное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Имя существительное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бедят его легко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Два вопроса: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кто? и что?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Обозначит все предметы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то? ворона, что? кометы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то? зайчонок, что? гроза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нига, речка, стрекоза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ак предметы называй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По вопросу узнавай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клипарты\еда раст\0_71cec_e5daee17_XL.jpg"/>
          <p:cNvPicPr/>
          <p:nvPr/>
        </p:nvPicPr>
        <p:blipFill>
          <a:blip r:embed="rId3"/>
          <a:stretch/>
        </p:blipFill>
        <p:spPr>
          <a:xfrm>
            <a:off x="5651640" y="4770360"/>
            <a:ext cx="2016000" cy="19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клипарты\еда раст\0a043543366a.png"/>
          <p:cNvPicPr/>
          <p:nvPr/>
        </p:nvPicPr>
        <p:blipFill>
          <a:blip r:embed="rId4"/>
          <a:stretch/>
        </p:blipFill>
        <p:spPr>
          <a:xfrm>
            <a:off x="2700360" y="404640"/>
            <a:ext cx="1684440" cy="160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клипарты\еда раст\1e249aa8ffde.png"/>
          <p:cNvPicPr/>
          <p:nvPr/>
        </p:nvPicPr>
        <p:blipFill>
          <a:blip r:embed="rId5"/>
          <a:stretch/>
        </p:blipFill>
        <p:spPr>
          <a:xfrm>
            <a:off x="179280" y="189000"/>
            <a:ext cx="2411640" cy="190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:\клипарты\животные\0_7e2e2_479fa020_S.png"/>
          <p:cNvPicPr/>
          <p:nvPr/>
        </p:nvPicPr>
        <p:blipFill>
          <a:blip r:embed="rId6"/>
          <a:stretch/>
        </p:blipFill>
        <p:spPr>
          <a:xfrm>
            <a:off x="3419640" y="4632480"/>
            <a:ext cx="1512720" cy="2003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:\клипарты\животные\76205050_large_0_506f0_56f46bb_L.png"/>
          <p:cNvPicPr/>
          <p:nvPr/>
        </p:nvPicPr>
        <p:blipFill>
          <a:blip r:embed="rId7"/>
          <a:stretch/>
        </p:blipFill>
        <p:spPr>
          <a:xfrm>
            <a:off x="2484360" y="2133720"/>
            <a:ext cx="2022480" cy="1836720"/>
          </a:xfrm>
          <a:prstGeom prst="rect">
            <a:avLst/>
          </a:prstGeom>
          <a:ln w="0">
            <a:noFill/>
          </a:ln>
        </p:spPr>
      </p:pic>
      <p:pic>
        <p:nvPicPr>
          <p:cNvPr id="101" name="Записанный звук" descr=""/>
          <p:cNvPicPr/>
          <p:nvPr/>
        </p:nvPicPr>
        <p:blipFill>
          <a:blip r:embed="rId8"/>
          <a:stretch/>
        </p:blipFill>
        <p:spPr>
          <a:xfrm>
            <a:off x="817236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572000" y="404640"/>
            <a:ext cx="42307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ьно любознательное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Имя прилагательное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 чём предметов-то секрет?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а вопросы дай ответ: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Он какой? Она какая?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ильный, добрая, родная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А оно? Оно смешное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ёплое и озорное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Эти признаки важны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Речь обогатить должн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D:\клипарты\животные\76205051_large_0_506f3_d3c84c22_L.png"/>
          <p:cNvPicPr/>
          <p:nvPr/>
        </p:nvPicPr>
        <p:blipFill>
          <a:blip r:embed="rId3"/>
          <a:stretch/>
        </p:blipFill>
        <p:spPr>
          <a:xfrm>
            <a:off x="3492360" y="4724280"/>
            <a:ext cx="1656000" cy="19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клипарты\животные\76205053_large_0_507b5_7450a82b_L.png"/>
          <p:cNvPicPr/>
          <p:nvPr/>
        </p:nvPicPr>
        <p:blipFill>
          <a:blip r:embed="rId4"/>
          <a:stretch/>
        </p:blipFill>
        <p:spPr>
          <a:xfrm>
            <a:off x="1403280" y="189000"/>
            <a:ext cx="3098880" cy="317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D:\клипарты\еда раст\0a1477208f59.png"/>
          <p:cNvPicPr/>
          <p:nvPr/>
        </p:nvPicPr>
        <p:blipFill>
          <a:blip r:embed="rId5"/>
          <a:stretch/>
        </p:blipFill>
        <p:spPr>
          <a:xfrm>
            <a:off x="0" y="1125360"/>
            <a:ext cx="2004840" cy="224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:\клипарты\еда раст\0eb8b6121562.png"/>
          <p:cNvPicPr/>
          <p:nvPr/>
        </p:nvPicPr>
        <p:blipFill>
          <a:blip r:embed="rId6"/>
          <a:stretch/>
        </p:blipFill>
        <p:spPr>
          <a:xfrm>
            <a:off x="6372360" y="4581360"/>
            <a:ext cx="2279520" cy="2097360"/>
          </a:xfrm>
          <a:prstGeom prst="rect">
            <a:avLst/>
          </a:prstGeom>
          <a:ln w="0">
            <a:noFill/>
          </a:ln>
        </p:spPr>
      </p:pic>
      <p:pic>
        <p:nvPicPr>
          <p:cNvPr id="108" name="Записанный звук" descr=""/>
          <p:cNvPicPr/>
          <p:nvPr/>
        </p:nvPicPr>
        <p:blipFill>
          <a:blip r:embed="rId7"/>
          <a:stretch/>
        </p:blipFill>
        <p:spPr>
          <a:xfrm>
            <a:off x="824400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572000" y="333360"/>
            <a:ext cx="415764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юбит ДЕЙСТВИЯ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глаго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стал, оделся и пошёл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Что же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делает предмет?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Даст такой глагол ответ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мотрит, думает, читает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Любит, знает, сострадает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ОСТОЯНИЯ души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ы в глаголы запиши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клипарты\Дети\0adb6f8fee7d.png"/>
          <p:cNvPicPr/>
          <p:nvPr/>
        </p:nvPicPr>
        <p:blipFill>
          <a:blip r:embed="rId3"/>
          <a:stretch/>
        </p:blipFill>
        <p:spPr>
          <a:xfrm>
            <a:off x="6443640" y="4508640"/>
            <a:ext cx="2125800" cy="220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клипарты\Дети\3a5a206b3ed6.png"/>
          <p:cNvPicPr/>
          <p:nvPr/>
        </p:nvPicPr>
        <p:blipFill>
          <a:blip r:embed="rId4"/>
          <a:stretch/>
        </p:blipFill>
        <p:spPr>
          <a:xfrm>
            <a:off x="826920" y="260280"/>
            <a:ext cx="2800440" cy="247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клипарты\Дети\3e13bbc7ab21.png"/>
          <p:cNvPicPr/>
          <p:nvPr/>
        </p:nvPicPr>
        <p:blipFill>
          <a:blip r:embed="rId5"/>
          <a:stretch/>
        </p:blipFill>
        <p:spPr>
          <a:xfrm>
            <a:off x="2916360" y="4076640"/>
            <a:ext cx="2863800" cy="2578320"/>
          </a:xfrm>
          <a:prstGeom prst="rect">
            <a:avLst/>
          </a:prstGeom>
          <a:ln w="0">
            <a:noFill/>
          </a:ln>
        </p:spPr>
      </p:pic>
      <p:pic>
        <p:nvPicPr>
          <p:cNvPr id="114" name="Записанный звук" descr=""/>
          <p:cNvPicPr/>
          <p:nvPr/>
        </p:nvPicPr>
        <p:blipFill>
          <a:blip r:embed="rId6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539640" y="404640"/>
            <a:ext cx="50943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лужебные части речи - Предло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 задать вопрос к предлогу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сто выйдет на подмогу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вяжет грамотно слова –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ужба в дружбу такова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11280" y="2924280"/>
            <a:ext cx="50403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лужебные части речи - Сою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ужит связи слов союз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т прочнее этих уз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числит, уточнит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дложения скре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805360" y="6308640"/>
            <a:ext cx="28857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ихи Елены Мельник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6443640" y="2924280"/>
            <a:ext cx="2016000" cy="3119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клипарты\цифры буквы\alf238\5.png"/>
          <p:cNvPicPr/>
          <p:nvPr/>
        </p:nvPicPr>
        <p:blipFill>
          <a:blip r:embed="rId3"/>
          <a:stretch/>
        </p:blipFill>
        <p:spPr>
          <a:xfrm>
            <a:off x="5364000" y="1413000"/>
            <a:ext cx="1368720" cy="136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клипарты\цифры буквы\alf238\21.png"/>
          <p:cNvPicPr/>
          <p:nvPr/>
        </p:nvPicPr>
        <p:blipFill>
          <a:blip r:embed="rId4"/>
          <a:stretch/>
        </p:blipFill>
        <p:spPr>
          <a:xfrm>
            <a:off x="6372360" y="260280"/>
            <a:ext cx="1295280" cy="124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:\клипарты\цифры буквы\alf238\3.png"/>
          <p:cNvPicPr/>
          <p:nvPr/>
        </p:nvPicPr>
        <p:blipFill>
          <a:blip r:embed="rId5"/>
          <a:stretch/>
        </p:blipFill>
        <p:spPr>
          <a:xfrm>
            <a:off x="3780000" y="4941720"/>
            <a:ext cx="1517400" cy="1357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:\клипарты\цифры буквы\alf238\12.png"/>
          <p:cNvPicPr/>
          <p:nvPr/>
        </p:nvPicPr>
        <p:blipFill>
          <a:blip r:embed="rId6"/>
          <a:stretch/>
        </p:blipFill>
        <p:spPr>
          <a:xfrm>
            <a:off x="4859280" y="3357720"/>
            <a:ext cx="1548000" cy="1573200"/>
          </a:xfrm>
          <a:prstGeom prst="rect">
            <a:avLst/>
          </a:prstGeom>
          <a:ln w="0">
            <a:noFill/>
          </a:ln>
        </p:spPr>
      </p:pic>
      <p:pic>
        <p:nvPicPr>
          <p:cNvPr id="123" name="Записанный звук" descr=""/>
          <p:cNvPicPr/>
          <p:nvPr/>
        </p:nvPicPr>
        <p:blipFill>
          <a:blip r:embed="rId7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:\моя\1.jpg"/>
          <p:cNvPicPr/>
          <p:nvPr/>
        </p:nvPicPr>
        <p:blipFill>
          <a:blip r:embed="rId2"/>
          <a:stretch/>
        </p:blipFill>
        <p:spPr>
          <a:xfrm>
            <a:off x="2268360" y="1484280"/>
            <a:ext cx="4248360" cy="442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Борис</cp:lastModifiedBy>
  <dcterms:modified xsi:type="dcterms:W3CDTF">2014-02-02T06:30:41Z</dcterms:modified>
  <cp:revision>38</cp:revision>
  <dc:subject/>
  <dc:title>Слайд 1</dc:title>
</cp:coreProperties>
</file>